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0.wmf" ContentType="image/x-wmf"/>
  <Override PartName="/ppt/media/image2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7.png" ContentType="image/png"/>
  <Override PartName="/ppt/media/image11.jpeg" ContentType="image/jpeg"/>
  <Override PartName="/ppt/media/image23.wmf" ContentType="image/x-wmf"/>
  <Override PartName="/ppt/media/image6.jpeg" ContentType="image/jpeg"/>
  <Override PartName="/ppt/media/image22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9.wmf" ContentType="image/x-wmf"/>
  <Override PartName="/ppt/media/image14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74CC-D87A-4621-81DD-3199F85E9FC1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2A6F-D793-4338-891E-916D6F6D1B1D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0C25B-4A06-4256-9328-391B4DC468C5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B5C3B-27C3-448D-8F88-6A3A6DBEA599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63794-5CFE-473A-BCDE-649752498D62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9F4A2-0B01-4F52-8865-5AEE53117C94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8407-41A0-4BB6-B309-68672FCC429F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5CDE-AEBD-4B81-81FC-BBE1846593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2FA9C-4E34-4A70-9C76-D96C07CB40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71CA5-DE13-4E7E-8EE5-9163DE4A54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CF218-7C45-496A-9AC3-7FF89A167C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FFC7-9CFC-4267-BBDD-22157A22E9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1764B-1A43-4AD6-ABF2-958D9CE3945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5C87F-AFA2-42EB-91C3-A8273C9FEF5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A688F-4525-4FB3-93F9-2495AD49150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17B34-A0D3-4FE2-9503-99DBAAF7AEC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85BB-9442-4BE1-801F-A0368959B0E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93C31-5802-4F31-A9F4-83A3E2B9E51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0C823-20E5-43C1-B53D-928ECB0A4C1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D2D1-B659-4C65-9085-B6F79F1C0A92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dditional Mod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429000" y="5000400"/>
            <a:ext cx="5572080" cy="2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Subtitle 12"/>
          <p:cNvSpPr/>
          <p:nvPr/>
        </p:nvSpPr>
        <p:spPr>
          <a:xfrm>
            <a:off x="1332000" y="128592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Attribute Processing, Latent Class Var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"/>
          <p:cNvSpPr/>
          <p:nvPr/>
        </p:nvSpPr>
        <p:spPr>
          <a:xfrm>
            <a:off x="1019160" y="3330720"/>
            <a:ext cx="81248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, Cambridge University Press, Cambri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Second Edition to appear in 20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Modeling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ix ignored attributes at zero?  Definitely no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Zero is an unrealistic value of the attribute (pri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The probability is a function of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x</a:t>
            </a:r>
            <a:r>
              <a:rPr b="0" lang="en-A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l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, so the substitution distorts the prob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ppropriate model:  for that individual, the specific coefficient is zero – consistent with the utility assumption.  A person specific, exogenously determined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urprisingly simple to implement.  -888 coding in NLO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ata for Application of Information Strate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514440" y="1819440"/>
            <a:ext cx="8062920" cy="46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ated/Revealed preference study, Sydney car commuters.  500+ surveyed, about 10 choice situations for e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xisting route vs. 3 proposed alternativ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Original attribute design: respondents presented with 3, 4, 5, or 6 attribut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Attribut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Free flow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Slowed down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Stop/start ti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Trip time varia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Toll co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700" spc="-1" strike="noStrike">
                <a:solidFill>
                  <a:srgbClr val="000000"/>
                </a:solidFill>
                <a:latin typeface="Arial"/>
                <a:ea typeface="Arial"/>
              </a:rPr>
              <a:t>Running cos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Final attribute design: respondents use only some attributes </a:t>
            </a:r>
            <a:r>
              <a:rPr b="1" lang="en-AU" sz="1900" spc="-1" strike="noStrike">
                <a:solidFill>
                  <a:srgbClr val="000000"/>
                </a:solidFill>
                <a:latin typeface="Arial"/>
                <a:ea typeface="Arial"/>
              </a:rPr>
              <a:t>and indicate when surveyed which ones they ignor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d Choice Exper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562360" cy="37515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3"/>
          <p:cNvSpPr/>
          <p:nvPr/>
        </p:nvSpPr>
        <p:spPr>
          <a:xfrm>
            <a:off x="1103400" y="5715000"/>
            <a:ext cx="682128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cillary questions:  Did you ignore any of these attribut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6" name="Object 2"/>
          <p:cNvGraphicFramePr/>
          <p:nvPr/>
        </p:nvGraphicFramePr>
        <p:xfrm>
          <a:off x="1219320" y="1219320"/>
          <a:ext cx="7162560" cy="53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219320"/>
                    <a:ext cx="7162560" cy="53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m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sher, D.A. and Greene, W.H. (2010) Non-attendance and dual processing of common-metric attributes in choice analysis: a latent class specificati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mpirical Economic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39 (2), 413-4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bell, D., Hensher, D.A. and Scarpa, R. (2011) Non-attendance to attributes in environmental choice analysis: a latent class specification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ournal of Environmental Planning and Managem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54 (8), 1061-107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ensher, D.A., Rose, J.M. and Greene, W.H. (2012) Inferring attribute non-attendance from stated choice data: implications for willingness to pay estimates and a warning for stated choice experiment design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39 (2), 235-24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llins, A.T., Rose, J.M. and Hensher, D.A. (2013) Specification issues in a generalised random parameters attribute nonattendance model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ransportation Research Part B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56, 234-25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ated Choice Exper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3" name="Picture 2" descr=""/>
          <p:cNvPicPr/>
          <p:nvPr/>
        </p:nvPicPr>
        <p:blipFill>
          <a:blip r:embed="rId1"/>
          <a:stretch/>
        </p:blipFill>
        <p:spPr>
          <a:xfrm>
            <a:off x="1782720" y="2255760"/>
            <a:ext cx="5562720" cy="3751200"/>
          </a:xfrm>
          <a:prstGeom prst="rect">
            <a:avLst/>
          </a:prstGeom>
          <a:ln w="0">
            <a:noFill/>
          </a:ln>
        </p:spPr>
      </p:pic>
      <p:sp>
        <p:nvSpPr>
          <p:cNvPr id="454" name="TextBox 3"/>
          <p:cNvSpPr/>
          <p:nvPr/>
        </p:nvSpPr>
        <p:spPr>
          <a:xfrm>
            <a:off x="374760" y="1517760"/>
            <a:ext cx="8412120" cy="3988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viduals seem to be ignoring attributes.  Unknown to the analy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major benefit of the LCM is that is capable of modeling different potential information processing strategies that respondents might have applied in making their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articular, the model may be used to explore different attribute processing rules that may have been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 respondents (different classes) may have ignored (attended to) some attributes more or less than other attrib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asking the respondent what they did, such attendance is latent within the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formation processing strategies (I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5244C-59DD-4C42-968A-CBB52FAB8E33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subgroups (classes) of respondents ‘ignored’ different subsets of attributes, then the parameter estimates for those attributes should be 0 for the different subgroups (clas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y restricting different patterns of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 to equal 0 across the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C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asses, one can attempt to model the different IPS that respondents may have used in making their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a class assignment model is also fitted, then this may offer clues as to who applied different IPS strategies (or why depending on the variables used in the class assignment mode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CM and 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D6D3-97BB-42C8-9A11-D23DEA7FD086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3292-D29C-4C35-A207-8BF5EC7D5749}" type="slidenum">
              <a:rPr b="0" lang="en-US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6" name=""/>
          <p:cNvGraphicFramePr/>
          <p:nvPr/>
        </p:nvGraphicFramePr>
        <p:xfrm>
          <a:off x="1738440" y="1987560"/>
          <a:ext cx="5667120" cy="4257720"/>
        </p:xfrm>
        <a:graphic>
          <a:graphicData uri="http://schemas.openxmlformats.org/drawingml/2006/table">
            <a:tbl>
              <a:tblPr/>
              <a:tblGrid>
                <a:gridCol w="1039680"/>
                <a:gridCol w="563400"/>
                <a:gridCol w="615960"/>
                <a:gridCol w="538200"/>
                <a:gridCol w="582840"/>
                <a:gridCol w="601560"/>
                <a:gridCol w="561960"/>
                <a:gridCol w="601560"/>
                <a:gridCol w="561960"/>
              </a:tblGrid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tent Class 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88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5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8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2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.02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6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65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7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0.8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9.2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AU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63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5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7.2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4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34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228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AU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Probabilitie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2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Class P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7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7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0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1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31120">
                <a:tc gridSpan="9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60.1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11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9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8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67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49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Content Placeholder 5"/>
          <p:cNvSpPr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analyst believes some attributes are ignored.  There is no indica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lasses distinguished by which attributes are igno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ame model applies, now a latent class.  For K attributes there are 2</a:t>
            </a:r>
            <a:r>
              <a:rPr b="0" lang="en-AU" sz="2000" spc="-1" strike="noStrike" baseline="30000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candidate coefficient vec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85480" y="2536920"/>
            <a:ext cx="75992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atent Class and Probabilistic Decision Rule Models</a:t>
            </a:r>
            <a:br>
              <a:rPr sz="1700"/>
            </a:br>
            <a:br>
              <a:rPr sz="1700"/>
            </a:br>
            <a:br>
              <a:rPr sz="1000"/>
            </a:br>
            <a:br>
              <a:rPr sz="1000"/>
            </a:b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04920" y="1096920"/>
            <a:ext cx="8153280" cy="103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atent Class Models with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ross Class Restri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72" name="Object 2"/>
          <p:cNvGraphicFramePr/>
          <p:nvPr/>
        </p:nvGraphicFramePr>
        <p:xfrm>
          <a:off x="747720" y="1716120"/>
          <a:ext cx="7710480" cy="251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7720" y="1716120"/>
                    <a:ext cx="7710480" cy="25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Content Placeholder 5"/>
          <p:cNvSpPr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7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8 Class Model: 6 structural utility parameters, 7 unrestricted prior probabilitie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Reduced form has 8(6)+8 = 56 parameters.  (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π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 = exp(α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)/∑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exp(α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), α</a:t>
            </a:r>
            <a:r>
              <a:rPr b="0" lang="en-AU" sz="19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J</a:t>
            </a:r>
            <a:r>
              <a:rPr b="0" lang="en-AU" sz="1900" spc="-1" strike="noStrike">
                <a:solidFill>
                  <a:srgbClr val="000000"/>
                </a:solidFill>
                <a:latin typeface="Tahoma"/>
                <a:ea typeface="Tahoma"/>
              </a:rPr>
              <a:t> =  0.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EM Algorithm:  Does not provide any means to impose cross class restriction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Bayesian” MCMC Methods:  May be possible to force the restrictions – it will not be simp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Conventional Maximization:  Simp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for the 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Picture 2" descr=""/>
          <p:cNvPicPr/>
          <p:nvPr/>
        </p:nvPicPr>
        <p:blipFill>
          <a:blip r:embed="rId1"/>
          <a:stretch/>
        </p:blipFill>
        <p:spPr>
          <a:xfrm>
            <a:off x="533520" y="1752480"/>
            <a:ext cx="8250120" cy="4496040"/>
          </a:xfrm>
          <a:prstGeom prst="rect">
            <a:avLst/>
          </a:prstGeom>
          <a:ln w="0">
            <a:noFill/>
          </a:ln>
        </p:spPr>
      </p:pic>
      <p:sp>
        <p:nvSpPr>
          <p:cNvPr id="478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2" descr=""/>
          <p:cNvPicPr/>
          <p:nvPr/>
        </p:nvPicPr>
        <p:blipFill>
          <a:blip r:embed="rId1"/>
          <a:stretch/>
        </p:blipFill>
        <p:spPr>
          <a:xfrm>
            <a:off x="380880" y="1371600"/>
            <a:ext cx="8491680" cy="373392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3" descr=""/>
          <p:cNvPicPr/>
          <p:nvPr/>
        </p:nvPicPr>
        <p:blipFill>
          <a:blip r:embed="rId2"/>
          <a:stretch/>
        </p:blipFill>
        <p:spPr>
          <a:xfrm>
            <a:off x="380880" y="5410080"/>
            <a:ext cx="8539200" cy="838440"/>
          </a:xfrm>
          <a:prstGeom prst="rect">
            <a:avLst/>
          </a:prstGeom>
          <a:ln w="0">
            <a:noFill/>
          </a:ln>
        </p:spPr>
      </p:pic>
      <p:sp>
        <p:nvSpPr>
          <p:cNvPr id="481" name="Rectangle 4"/>
          <p:cNvSpPr/>
          <p:nvPr/>
        </p:nvSpPr>
        <p:spPr>
          <a:xfrm>
            <a:off x="6324480" y="5410080"/>
            <a:ext cx="2514600" cy="22860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5"/>
          <p:cNvSpPr/>
          <p:nvPr/>
        </p:nvSpPr>
        <p:spPr>
          <a:xfrm>
            <a:off x="380880" y="5640480"/>
            <a:ext cx="6858000" cy="234720"/>
          </a:xfrm>
          <a:prstGeom prst="rect">
            <a:avLst/>
          </a:prstGeom>
          <a:solidFill>
            <a:srgbClr val="ff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3" descr=""/>
          <p:cNvPicPr/>
          <p:nvPr/>
        </p:nvPicPr>
        <p:blipFill>
          <a:blip r:embed="rId1"/>
          <a:stretch/>
        </p:blipFill>
        <p:spPr>
          <a:xfrm>
            <a:off x="685800" y="3025800"/>
            <a:ext cx="7848720" cy="3473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2" descr=""/>
          <p:cNvPicPr/>
          <p:nvPr/>
        </p:nvPicPr>
        <p:blipFill>
          <a:blip r:embed="rId2"/>
          <a:stretch/>
        </p:blipFill>
        <p:spPr>
          <a:xfrm>
            <a:off x="380880" y="1981080"/>
            <a:ext cx="8334360" cy="901800"/>
          </a:xfrm>
          <a:prstGeom prst="rect">
            <a:avLst/>
          </a:prstGeom>
          <a:ln w="0">
            <a:noFill/>
          </a:ln>
        </p:spPr>
      </p:pic>
      <p:sp>
        <p:nvSpPr>
          <p:cNvPr id="486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model with 6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2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382240" cy="119232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304920" y="3657600"/>
            <a:ext cx="8443800" cy="2320920"/>
          </a:xfrm>
          <a:prstGeom prst="rect">
            <a:avLst/>
          </a:prstGeom>
          <a:ln w="0">
            <a:noFill/>
          </a:ln>
        </p:spPr>
      </p:pic>
      <p:sp>
        <p:nvSpPr>
          <p:cNvPr id="49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tated choice experi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362800" cy="2500560"/>
          </a:xfrm>
          <a:prstGeom prst="rect">
            <a:avLst/>
          </a:prstGeom>
          <a:ln w="0">
            <a:noFill/>
          </a:ln>
        </p:spPr>
      </p:pic>
      <p:sp>
        <p:nvSpPr>
          <p:cNvPr id="49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LCM and 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Latent class model – Prior class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tent Cl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Latent Class, Fixed Parameters, No ANA, No ACM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Slide Number Placeholder 2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996F-7E7E-42A9-A85D-9DCE88ECA4B0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2" descr=""/>
          <p:cNvPicPr/>
          <p:nvPr/>
        </p:nvPicPr>
        <p:blipFill>
          <a:blip r:embed="rId1"/>
          <a:stretch/>
        </p:blipFill>
        <p:spPr>
          <a:xfrm>
            <a:off x="608040" y="1720800"/>
            <a:ext cx="8029440" cy="29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400" spc="-1" strike="noStrike">
                <a:solidFill>
                  <a:srgbClr val="ffffff"/>
                </a:solidFill>
                <a:latin typeface="Arial"/>
              </a:rPr>
              <a:t>Latent Class, Fixed Parameters, FAA, ANA, ACM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lide Number Placeholder 2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BC1E8-034C-4A1F-B576-2BCB97F0BBC5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2" descr=""/>
          <p:cNvPicPr/>
          <p:nvPr/>
        </p:nvPicPr>
        <p:blipFill>
          <a:blip r:embed="rId1"/>
          <a:stretch/>
        </p:blipFill>
        <p:spPr>
          <a:xfrm>
            <a:off x="905040" y="1498680"/>
            <a:ext cx="7302240" cy="47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3080" y="428400"/>
            <a:ext cx="70408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250920" y="1754280"/>
            <a:ext cx="8663040" cy="47354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nsher, D.A. (in press)Attribute processing as a behavioural strategy in choice making, in Hess, S. and Daly, A.J. (eds.),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Handbook of Discrete Choice Modell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Edward Elgar, UK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 (2010) Attribute Processing, Heuristics and Preference Construction in Choice Analysis. in Hess, S. and Daly, A. (eds.)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State-of Art and State-of Practice in Choice Modellin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Emerald Press, UK., 35-7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, Rose, J.M. and Greene, W.H. (2012) Inferring attribute non-attendance from stated choice data: implications for willingness to pay estimates and a warning for stated choice experiment design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39 (2) 235-25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, Rose, J. and Greene, W. (2005) The Implications on Willingness to Pay of Respondents Ignoring Specific Attributes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32 (3), 203-22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 (2006a) How do Respondents Process Stated Choice Experiments? – Attribute consideration under varying information load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Journal of Applied Econometr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21, 861-87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Hensher, D.A. and Collins, A. (2011) Interrogation of Responses to Stated Choice Experiments: Is there sense in what respondents tell us? A Closer Look at what Respondents Choose in Stated Choice Experiments.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</a:rPr>
              <a:t>Journal of Choice Modelling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</a:rPr>
              <a:t>, 4 (1), 62-8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EC14C-F0A4-41FA-966B-FF88047912DA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ttribute processing: Some key 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873080" y="428400"/>
            <a:ext cx="704088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753920"/>
            <a:ext cx="8663040" cy="4699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rpa, R., Gilbride, T., Campbell, D. and Hensher, D.A. (2009) Modeling attribute non-attendance in choice experiments for rural landscape valuation 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uropean Review of Agricultural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36 (2), 151-174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rpa, R,  Zanoli, R.,  Bruschi, V. and  Naspetti, S. (2012) Inferred and stated attribute non-attendance in food choice experiments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merican Journal of Agricultural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doi: 10.1093/ajae/aas07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Scarpa, R., Thiene, M. and Hensher, D.A., (2010) Monitoring Choice Task Attribute Attendance in Non-Market Valuation of Multiple Park Management Services: Does it Matter?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and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86(4), 817-839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Greene, W.H. and Hensher, D.A. (2013) Revealing additional dimensions of preference heterogeneity in a latent class mixed multinomial logit model, </a:t>
            </a:r>
            <a:r>
              <a:rPr b="0" i="1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pplied Economics</a:t>
            </a:r>
            <a:r>
              <a:rPr b="0" lang="en-A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, 45 (14) 1897-1902. DOI:10.1080/00036846.2011.650325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DA46-35BF-4CA3-A0F4-11B2F4CC67CC}" type="slidenum">
              <a:rPr b="0" lang="en-AU" sz="900" spc="-1" strike="noStrike">
                <a:solidFill>
                  <a:srgbClr val="ce1126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ttribute processing: Some key pap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cision Strategy in Multinomial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16" name="Object 2"/>
          <p:cNvGraphicFramePr/>
          <p:nvPr/>
        </p:nvGraphicFramePr>
        <p:xfrm>
          <a:off x="685800" y="2158920"/>
          <a:ext cx="7948440" cy="205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58920"/>
                    <a:ext cx="794844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nomial Logit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"/>
          <p:cNvGraphicFramePr/>
          <p:nvPr/>
        </p:nvGraphicFramePr>
        <p:xfrm>
          <a:off x="533520" y="2133720"/>
          <a:ext cx="80024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33720"/>
                    <a:ext cx="80024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2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2"/>
          <p:cNvSpPr/>
          <p:nvPr/>
        </p:nvSpPr>
        <p:spPr>
          <a:xfrm>
            <a:off x="687240" y="7013520"/>
            <a:ext cx="807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Box 3"/>
          <p:cNvSpPr/>
          <p:nvPr/>
        </p:nvSpPr>
        <p:spPr>
          <a:xfrm>
            <a:off x="1014480" y="5408640"/>
            <a:ext cx="7424640" cy="703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oice situations in which the individual explicitly states that they ignored certain attributes in their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plici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3"/>
          <p:cNvSpPr/>
          <p:nvPr/>
        </p:nvSpPr>
        <p:spPr>
          <a:xfrm>
            <a:off x="514440" y="1819440"/>
            <a:ext cx="8062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sher, D.A., Rose, J. and Greene, W. (2005) The Implications on Willingness to Pay of Respondents Ignoring Specific Attributes (DoD#6) Transportation, 32 (3), 203-22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nsher, D.A. and Rose, J.M. (2009) Simplifying Choice through Attribute Preservation or Non-Attendance: Implications for Willingness to Pay,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ransportation Research Part 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45, 583-59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ose, J., Hensher, D., Greene, W. and Washington, S. Attribute Exclusion Strategies in Airline Choice: Accounting for Exogenous Information on Decision Maker Processing Strategies in Models of Discrete Choice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Transportmetrica,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8" name="Object 2"/>
          <p:cNvGraphicFramePr/>
          <p:nvPr/>
        </p:nvGraphicFramePr>
        <p:xfrm>
          <a:off x="914400" y="2824200"/>
          <a:ext cx="5562720" cy="67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824200"/>
                    <a:ext cx="556272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0" name="Rectangle 6"/>
          <p:cNvSpPr/>
          <p:nvPr/>
        </p:nvSpPr>
        <p:spPr>
          <a:xfrm>
            <a:off x="762120" y="2735280"/>
            <a:ext cx="6095880" cy="990720"/>
          </a:xfrm>
          <a:prstGeom prst="rect">
            <a:avLst/>
          </a:prstGeom>
          <a:solidFill>
            <a:srgbClr val="ff0000">
              <a:alpha val="15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ethodologically, a rather minor point – construct appropriate likelihood given known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 a latent class model. Classes are not lat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 the ‘variable selection’ issue (the worst form of “stepwise” mode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amiliar strategy gives the wrong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04920" y="1146240"/>
            <a:ext cx="853416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ydney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muters’ Route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itle 1"/>
          <p:cNvSpPr/>
          <p:nvPr/>
        </p:nvSpPr>
        <p:spPr>
          <a:xfrm>
            <a:off x="1873080" y="428760"/>
            <a:ext cx="704088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ttribute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514440" y="1819440"/>
            <a:ext cx="8062920" cy="44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tated Preference study – several possible choice situations considered by each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Multinomial and mixed (random parameters) log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umers included data on which attributes were igno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gnored attributes visibly coded as ignored are automatically treated by constraining 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for that obser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Bill</cp:lastModifiedBy>
  <dcterms:modified xsi:type="dcterms:W3CDTF">2015-05-07T00:22:19Z</dcterms:modified>
  <cp:revision>727</cp:revision>
  <dc:subject/>
  <dc:title>UNIS Template</dc:title>
</cp:coreProperties>
</file>